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4BC-3D0A-443F-8CD1-97BC192D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DD4-BDAA-4D96-B557-C2A2DAC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0A5-043A-4A5D-A2F6-91F95F27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3D5-2EF7-430B-90E9-A08E0735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415-DC25-4EE2-A449-0F040ECC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D21-8BCD-4138-8FC2-ACED27A9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92F-9374-44F4-8B89-C0F48C40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4EE-E680-4F44-88B6-5DB0062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52D-6D1C-4C3C-8AA3-7EFE259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E2D-A494-4763-97D6-99982EE2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967-ABAB-466A-B9E6-FA46C58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255-1A3D-4BD0-90DE-2896699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B70-1649-495D-B338-7A2948955C81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"/>
          <p:cNvSpPr/>
          <p:nvPr/>
        </p:nvSpPr>
        <p:spPr>
          <a:xfrm>
            <a:off x="414360" y="324000"/>
            <a:ext cx="9051840" cy="611640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"/>
          <p:cNvSpPr/>
          <p:nvPr/>
        </p:nvSpPr>
        <p:spPr>
          <a:xfrm>
            <a:off x="247680" y="152280"/>
            <a:ext cx="9429840" cy="64771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"/>
          <p:cNvSpPr/>
          <p:nvPr/>
        </p:nvSpPr>
        <p:spPr>
          <a:xfrm>
            <a:off x="641520" y="0"/>
            <a:ext cx="332100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" name=""/>
          <p:cNvSpPr/>
          <p:nvPr/>
        </p:nvSpPr>
        <p:spPr>
          <a:xfrm>
            <a:off x="1372680" y="25560"/>
            <a:ext cx="246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300"/>
                </a:solidFill>
                <a:latin typeface="Arial"/>
                <a:ea typeface="Arial"/>
              </a:rPr>
              <a:t>Nimda Co. Ltd.</a:t>
            </a:r>
            <a:endParaRPr b="0" lang="en-US" sz="2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3800" y="31680"/>
            <a:ext cx="511200" cy="439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33520" y="763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9" name=""/>
          <p:cNvSpPr/>
          <p:nvPr/>
        </p:nvSpPr>
        <p:spPr>
          <a:xfrm>
            <a:off x="3962520" y="0"/>
            <a:ext cx="15228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838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319720" cy="368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2578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 (Hebrew)"/>
              </a:rPr>
              <a:t>Nimda’s westernized and modernized BTR-2000 amphibious armoured personal carrier . Provided with new weapon station, new powerpack, Night vision and automatic extinguishing system.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Test run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35000" y="1295280"/>
            <a:ext cx="61423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553440" cy="480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Amphibious, tested by Nimda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00800" y="4197240"/>
            <a:ext cx="2844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Testing by Marines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606680"/>
            <a:ext cx="7086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7800" y="1447920"/>
            <a:ext cx="7056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fully equipped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1338120"/>
            <a:ext cx="70866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81560" cy="503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609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Modernization line of PT-2000 and BTR-2000, at Nimda’s plant in South- East Asia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Engine 6V92T Nimda’s model – fully dressed ready for installation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1317600"/>
            <a:ext cx="5284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engine 6V92T Nimda vision with “clutch assembly”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0801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engine 6V92T installation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866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Inside weapon station (Supplied by Nimda)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34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All required parts for re-powering manufactured by Nimda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89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4572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BTR-2000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 (Hebrew)"/>
              </a:rPr>
              <a:t>New driver components 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86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7:20:41Z</dcterms:created>
  <dc:creator>רייצ'ל</dc:creator>
  <dc:description/>
  <dc:language>en-US</dc:language>
  <cp:lastModifiedBy>ronnie</cp:lastModifiedBy>
  <cp:lastPrinted>2002-01-23T08:37:06Z</cp:lastPrinted>
  <dcterms:modified xsi:type="dcterms:W3CDTF">2011-11-06T09:31:07Z</dcterms:modified>
  <cp:revision>34</cp:revision>
  <dc:subject/>
  <dc:title>ללא כותרת שקופי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90000000000010290310207f7000400038000</vt:lpwstr>
  </property>
</Properties>
</file>